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2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10.wmf" ContentType="image/x-wmf"/>
  <Override PartName="/ppt/media/image6.jpeg" ContentType="image/jpeg"/>
  <Override PartName="/ppt/media/image5.wmf" ContentType="image/x-wmf"/>
  <Override PartName="/ppt/media/image20.png" ContentType="image/png"/>
  <Override PartName="/ppt/media/image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87B-F624-4D3B-8E18-300B3BC3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B40-D30B-4E95-A181-24EE1949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27F-78AF-4FE7-AD56-8C9034D2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15B-43CC-4DDD-8261-FE620764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746-B629-45A6-A3E7-4D9123AB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98C-1F38-46D0-A4CB-8C75F2EC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F38-C1FF-4E6E-9864-C396E06E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C9C-8B68-496D-83C5-CD7A6210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98C-CCC5-4051-88C5-7ACB9463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12B-15D6-4DD1-BFCE-E18B903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71D-2534-46F9-A825-98B104A8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550-59C7-46F4-8DA7-83B023F4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8530-F3D9-4E23-8BF5-93FD6D47D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er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pañol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pitulo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istrator\Local Settings\Temporary Internet Files\Content.IE5\729ZYMEA\MCj03474550000[1].wmf"/>
          <p:cNvPicPr/>
          <p:nvPr/>
        </p:nvPicPr>
        <p:blipFill>
          <a:blip r:embed="rId1"/>
          <a:stretch/>
        </p:blipFill>
        <p:spPr>
          <a:xfrm>
            <a:off x="2057400" y="1752480"/>
            <a:ext cx="455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Administrator\Local Settings\Temporary Internet Files\Content.IE5\9OP2223Z\MCj04344130000[1].wmf"/>
          <p:cNvPicPr/>
          <p:nvPr/>
        </p:nvPicPr>
        <p:blipFill>
          <a:blip r:embed="rId1"/>
          <a:stretch/>
        </p:blipFill>
        <p:spPr>
          <a:xfrm>
            <a:off x="4572000" y="3505320"/>
            <a:ext cx="3936960" cy="265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Administrator\Local Settings\Temporary Internet Files\Content.IE5\9J5LFX1Q\MCj04343790000[1].wmf"/>
          <p:cNvPicPr/>
          <p:nvPr/>
        </p:nvPicPr>
        <p:blipFill>
          <a:blip r:embed="rId2"/>
          <a:stretch/>
        </p:blipFill>
        <p:spPr>
          <a:xfrm>
            <a:off x="914400" y="1905120"/>
            <a:ext cx="322092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Administrator\Local Settings\Temporary Internet Files\Content.IE5\8CO4BM26\MCj04420280000[1].wmf"/>
          <p:cNvPicPr/>
          <p:nvPr/>
        </p:nvPicPr>
        <p:blipFill>
          <a:blip r:embed="rId1"/>
          <a:stretch/>
        </p:blipFill>
        <p:spPr>
          <a:xfrm>
            <a:off x="5105520" y="1600200"/>
            <a:ext cx="2921040" cy="4978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Administrator\Local Settings\Temporary Internet Files\Content.IE5\FKOQXK84\MPj04392840000[1].jpg"/>
          <p:cNvPicPr/>
          <p:nvPr/>
        </p:nvPicPr>
        <p:blipFill>
          <a:blip r:embed="rId2"/>
          <a:stretch/>
        </p:blipFill>
        <p:spPr>
          <a:xfrm>
            <a:off x="838080" y="22096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istrator\Local Settings\Temporary Internet Files\Content.IE5\TD560MK2\MPj04385020000[1].jpg"/>
          <p:cNvPicPr/>
          <p:nvPr/>
        </p:nvPicPr>
        <p:blipFill>
          <a:blip r:embed="rId1"/>
          <a:stretch/>
        </p:blipFill>
        <p:spPr>
          <a:xfrm>
            <a:off x="5562720" y="2951280"/>
            <a:ext cx="3071520" cy="355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istrator\Local Settings\Temporary Internet Files\Content.IE5\BZ9VOC52\MCj04382110000[1].wmf"/>
          <p:cNvPicPr/>
          <p:nvPr/>
        </p:nvPicPr>
        <p:blipFill>
          <a:blip r:embed="rId2"/>
          <a:stretch/>
        </p:blipFill>
        <p:spPr>
          <a:xfrm>
            <a:off x="1295280" y="4343400"/>
            <a:ext cx="2362320" cy="2255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Administrator\Local Settings\Temporary Internet Files\Content.IE5\8JY5HLQM\MCj04355640000[1].wmf"/>
          <p:cNvPicPr/>
          <p:nvPr/>
        </p:nvPicPr>
        <p:blipFill>
          <a:blip r:embed="rId3"/>
          <a:stretch/>
        </p:blipFill>
        <p:spPr>
          <a:xfrm>
            <a:off x="83808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Documents and Settings\Administrator\Local Settings\Temporary Internet Files\Content.IE5\I669Q1CW\MCj04370490000[1].png"/>
          <p:cNvPicPr/>
          <p:nvPr/>
        </p:nvPicPr>
        <p:blipFill>
          <a:blip r:embed="rId4"/>
          <a:stretch/>
        </p:blipFill>
        <p:spPr>
          <a:xfrm>
            <a:off x="327672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Administrator\Local Settings\Temporary Internet Files\Content.IE5\G3TJ3ZS9\MCj01045640000[1].wmf"/>
          <p:cNvPicPr/>
          <p:nvPr/>
        </p:nvPicPr>
        <p:blipFill>
          <a:blip r:embed="rId5"/>
          <a:stretch/>
        </p:blipFill>
        <p:spPr>
          <a:xfrm>
            <a:off x="6477120" y="838080"/>
            <a:ext cx="1758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pas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Administrator\Local Settings\Temporary Internet Files\Content.IE5\3STU9VUZ\MCj04380020000[1].wmf"/>
          <p:cNvPicPr/>
          <p:nvPr/>
        </p:nvPicPr>
        <p:blipFill>
          <a:blip r:embed="rId2"/>
          <a:stretch/>
        </p:blipFill>
        <p:spPr>
          <a:xfrm>
            <a:off x="1219320" y="3048120"/>
            <a:ext cx="347508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Administrator\Local Settings\Temporary Internet Files\Content.IE5\TUAJ1N5X\MCj04238180000[1].wmf"/>
          <p:cNvPicPr/>
          <p:nvPr/>
        </p:nvPicPr>
        <p:blipFill>
          <a:blip r:embed="rId3"/>
          <a:stretch/>
        </p:blipFill>
        <p:spPr>
          <a:xfrm>
            <a:off x="4964040" y="2971800"/>
            <a:ext cx="3470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Administrator\Local Settings\Temporary Internet Files\Content.IE5\729ZYMEA\MCj0396738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1893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 el perr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istrator\Local Settings\Temporary Internet Files\Content.IE5\KYRIXQFT\MCj04360970000[1].wmf"/>
          <p:cNvPicPr/>
          <p:nvPr/>
        </p:nvPicPr>
        <p:blipFill>
          <a:blip r:embed="rId1"/>
          <a:stretch/>
        </p:blipFill>
        <p:spPr>
          <a:xfrm>
            <a:off x="352440" y="2819520"/>
            <a:ext cx="8791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istrator\Local Settings\Temporary Internet Files\Content.IE5\TD560MK2\MCj04238380000[1].wmf"/>
          <p:cNvPicPr/>
          <p:nvPr/>
        </p:nvPicPr>
        <p:blipFill>
          <a:blip r:embed="rId2"/>
          <a:stretch/>
        </p:blipFill>
        <p:spPr>
          <a:xfrm>
            <a:off x="3200400" y="2209680"/>
            <a:ext cx="26463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Administrator\Local Settings\Temporary Internet Files\Content.IE5\DK7QSIU8\MPj04427090000[1].jpg"/>
          <p:cNvPicPr/>
          <p:nvPr/>
        </p:nvPicPr>
        <p:blipFill>
          <a:blip r:embed="rId1"/>
          <a:stretch/>
        </p:blipFill>
        <p:spPr>
          <a:xfrm>
            <a:off x="1319040" y="1600200"/>
            <a:ext cx="650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Local Settings\Temporary Internet Files\Content.IE5\9OP2223Z\MCj04298350000[1].wmf"/>
          <p:cNvPicPr/>
          <p:nvPr/>
        </p:nvPicPr>
        <p:blipFill>
          <a:blip r:embed="rId1"/>
          <a:stretch/>
        </p:blipFill>
        <p:spPr>
          <a:xfrm>
            <a:off x="2057400" y="1905120"/>
            <a:ext cx="4538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Administrator\Local Settings\Temporary Internet Files\Content.IE5\FKOQXK84\MPj04392930000[1].jpg"/>
          <p:cNvPicPr/>
          <p:nvPr/>
        </p:nvPicPr>
        <p:blipFill>
          <a:blip r:embed="rId1"/>
          <a:stretch/>
        </p:blipFill>
        <p:spPr>
          <a:xfrm>
            <a:off x="4495680" y="3276720"/>
            <a:ext cx="3994200" cy="286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Administrator\Local Settings\Temporary Internet Files\Content.IE5\CJ9PF0LJ\MPj04421790000[1].jpg"/>
          <p:cNvPicPr/>
          <p:nvPr/>
        </p:nvPicPr>
        <p:blipFill>
          <a:blip r:embed="rId2"/>
          <a:stretch/>
        </p:blipFill>
        <p:spPr>
          <a:xfrm>
            <a:off x="609480" y="1676520"/>
            <a:ext cx="31244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9OP2223Z\MCj04238340000[1].wmf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Administrator\Local Settings\Temporary Internet Files\Content.IE5\KYRIXQFT\MCj04344070000[1].wmf"/>
          <p:cNvPicPr/>
          <p:nvPr/>
        </p:nvPicPr>
        <p:blipFill>
          <a:blip r:embed="rId2"/>
          <a:stretch/>
        </p:blipFill>
        <p:spPr>
          <a:xfrm>
            <a:off x="2743200" y="1828800"/>
            <a:ext cx="38862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4:20:10Z</dcterms:created>
  <dc:creator> </dc:creator>
  <dc:description/>
  <dc:language>en-US</dc:language>
  <cp:lastModifiedBy> </cp:lastModifiedBy>
  <dcterms:modified xsi:type="dcterms:W3CDTF">2010-01-06T14:37:57Z</dcterms:modified>
  <cp:revision>2</cp:revision>
  <dc:subject/>
  <dc:title>Tener Phrases</dc:title>
</cp:coreProperties>
</file>